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9DB-C04B-4EAD-AD30-368A6951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ECE-879F-468C-95F8-976060F4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E11DF-77CA-470B-A371-CA7A632C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807A2-6CD7-4262-B5A1-BEFAA9C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794C7-6595-4BDC-BB3B-68CF37C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FC757-8204-4C1C-9952-F438CA0C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12208-5914-4B7B-8BB4-31A49EE4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C4998-9ED4-4548-AA51-134064AC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5B67E-965B-4A45-B57B-47E08856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44FD1-4A00-4E20-B2C3-9B666E52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2C3CF-4DCA-4CB6-92D9-CE7E9D31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089E7-FD87-4174-A718-D60FF3C8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065-497A-4D07-838E-16FDB90F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57947-70E4-4479-8B2F-349E6798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00B35-D794-4DE1-AEF2-7965414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383E8-3768-4938-BF58-2148BD16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12129-5F2A-4385-90D6-92B41A48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EC62E-0D28-4F3F-BA52-1DA7D0F5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FB900-3434-4798-9C77-C1A089EB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9DAD3-0C56-4304-8CC9-EAEB10D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87A8F-9A18-4438-BF0A-2965ADC2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328FE-FBBE-4A15-A212-B7A65F1E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7C917-734E-4915-8C0C-BAC4864C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89D-C786-49EB-AE66-5AA9D238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40CFB-E150-48B8-8A0C-B59A3F86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917DE-B7B1-4D90-B5B4-15C19D47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A2E44-70B8-4E42-BCF7-FB9B7D0F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97DD8-A939-4019-860B-05C5DF9B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76CF4-41F2-4B26-9D45-6DC2C6D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5D941-A5D6-4160-A126-D72D47B1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70ACB-39D6-403A-9754-2D494D59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E0478-E4FF-4D80-916C-34AB863D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E4A64-B463-43D3-A26F-7913A45A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FFCFA-B3A8-4023-AF54-D6FE6E9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69E-5D93-40DF-B721-508088A4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03006-B623-482D-9895-CF964B7F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0D06F-170D-491E-B170-06949A5D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2D6C-2A1F-4494-B2AD-61B63FD7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CE8BD-D9EC-4351-9F43-2A922EFC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E09DD-80D6-4D06-92DF-94E5429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698A7-1749-4345-B455-9966AD58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021CC-A824-4CA8-9261-D9EA2CA5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CBC97-C384-4834-A256-8BECA53D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40487-475E-4DAB-8384-D197FD59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8AC7A-9D7D-4887-8A1B-5E573A6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C21E-E1B6-41FF-AC8F-E5231E71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829F8-5E5E-4252-8A15-CDAC448A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1F7C0-AEBD-4FE6-B637-6EF1251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D0C85-12EC-4A69-B796-6C60AA18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25E7B-53E0-4D1E-BF17-BD5DF67D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0D01C-5976-482E-A440-7573B9AC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8FDE-D29D-41E2-8286-A19A0C70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71FD-64FC-4C04-A646-F0D17F0E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48BB-F222-4F65-8CB5-77223959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34F6-2109-459C-BE38-04797A60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C7CA-C63B-47F7-B027-FAD1E81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2DA-EDA1-4737-B7E0-97D7D41F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0E18-B432-4DBE-A24A-338BBCE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D0F8-F5AA-46AA-8959-54FA5295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276D-E49D-4D3D-8B2B-43345D3F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46D4-1200-496A-A7CB-01325989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7CBD-BAB4-419B-9A08-2403F254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72F9-617C-43C7-B73B-AA4E233C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D2DC-4CF1-4DA8-AA1E-4F090D40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9B85-739D-4151-9F14-1412F00E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1F95-7364-45A8-B9BC-06F30AFE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5B4F-3C28-47C0-B65B-CCBD670D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F05-0653-4802-A2D0-B833CAA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C107-04B8-44FB-9B25-DBBCB40E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6FD8-C700-4B90-9778-4B55FDC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6EFF-0BE6-4FD9-865A-801EA1C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CE22-6DB9-44B8-8E34-48441D2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D1AC-0E88-447E-AF86-2E513599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2941-34DA-4408-AFA1-707A816B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4B42-0878-491B-A1CF-DFBEBB40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2CB6-D2F6-4BE1-9390-168BA5D5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ED7A9-45E5-4E68-945F-DB5633D1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0404-FA27-42F5-A3B5-C47EFF6E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02F-AA93-473C-A358-35DC22C7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F980-9CA4-49E0-A556-4D627AB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4BA2-D8C0-42AF-ACDE-80F5C5B9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37125-D43D-448F-A8AA-DED1231B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8E02-98E2-4F01-A79D-4CC8281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570C-18C8-4D34-8175-8A0637EC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2B3A-FD2A-491C-8C49-D4A99F4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7669-DBAF-4B22-AEF3-F08FBB7E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DD80-E533-4890-97CC-07F862AD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2493-121E-467D-8554-E430C925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DB27D-D9D1-4DA8-8833-095479AB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4B8-6F73-41A4-AE0B-E109F312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7DD37-81E0-4E1C-9B03-9EA40529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BD0D2-1076-4827-80F4-5B7F7DD8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21D6-E291-4CF1-96EA-CC7E0D64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04E7-3CB7-4900-B3C2-DAD0E53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C0EA-22B7-4310-907B-26E8C04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76D12-522C-43B7-8792-A6F1A8A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42DE-4D52-46A5-B5E2-2D6D80C2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C0C4-C26C-4CC5-BF31-7AA13CAC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9362C-3E2E-4BC9-8550-7BD88172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2A331-A488-42CA-B68B-71E2B6F7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42F-A740-4889-AE70-7DB8DD63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C27A5-36AA-439F-A360-D24D36C2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6C342-0581-417B-A14D-8FF29C54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15FCC-9F8F-4A67-9918-6F341614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CD2BB-D929-4408-9932-8C06A3D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C5AAE-0EAF-4FBD-8A29-06ACC70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5B6DA-EE8B-4383-A391-B123819E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5361-0CA0-46CD-8ECE-FCAF1370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9E83-9DE2-4C31-8775-7011813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FFA71-2976-4A0F-BCCC-C2A0578E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91DCF-6CE5-4486-B58B-9D111E97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8EF-A39A-49B7-98A3-45453BB2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40DB-E499-47CA-A28E-9F1C50B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4181D-CCF5-431B-A2F6-7EE797B7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EEBCD-DDC0-406A-88B6-0C0C39C1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088B8-3321-42F9-9166-85FE4964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451AB-6FE2-4D9C-AE8B-C011EF0C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08503-87EC-4F68-A688-3B951054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549AF-21D3-4782-B51A-F01F1789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93B0C-3819-4CDA-B7EB-0ECBDA10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CD26-8ABF-4DFD-9C9B-243E18E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BF22-5B07-4159-B638-EF2E7A17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C0C-4FB8-4E7E-9B81-01A89A3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E0438-0B05-4D49-BBA3-7C05EB57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D3C75-A5BA-4B85-B909-CF1346BC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D835-F914-49A8-8C9D-DA3303EB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AF84C-42D5-4195-88F2-31FE75B5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4D53B-2E80-4B77-8855-7827EB7C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C08C5-1221-4A84-AC94-D5521810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800E3-5C1F-474D-AA14-2BF11D36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F6027-F68A-457D-A95E-B8DE70DF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E9B2-E500-4B0F-9160-3183949E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3B0D-1F43-44B5-A01A-8A772285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BCF-8205-44B0-8B6D-2C05D71E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25AF8-8B85-4BDD-BBBB-B55DD44C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90BAD-E574-4762-AA77-E06DE5D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01F58-9921-45DC-BB1A-5E1D3113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3D431-8F77-4977-AA62-D626BEF8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EDA16-55FF-4239-83DF-CB2814A4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5F989-46FE-4883-B890-0F6542B4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4C73A-7E62-4514-BD39-2F1C309B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8914-9C05-4B44-8E86-1B3B3AF1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AE22A-BEE3-4F9A-A042-33E7F45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D4796-A206-4B00-9F5F-F36F5DB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D517-998C-4D4F-B1CB-E5DFC8ABD4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F9B-5E6C-4ADA-A878-BE2C329FE46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C44D-0B35-45BC-A9CE-E973004783D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5C6D-3C5B-4F78-A6CD-4629EF3472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8C8-46F2-4D5D-864B-AC3F84DC0D2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748B-68EF-4319-9ED2-23EBFA74F0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25C9-8233-44B7-997D-C4C68C67E0B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D9CB-E877-4FFF-B3DC-11C3D028F4B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695-7259-468F-95F2-B45C6891A3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71C7-9892-4083-A9B3-B5543E9C9FB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0F13-D760-4234-AFDF-990D665DB87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870-DA28-43FA-90BC-C8BD010536D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94 Čas rýchlym svojím tok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 rýchlym svojím tok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i odnáš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d ďaľším starým rok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tieň vzná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nes chceme vrúcnou vďa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ť Bohu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láskavou vždy ruko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čil si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svoje štedré dl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ád otvár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dary každoden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rozd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bolesť, žiaľ či t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iek pre nás m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srdca novú pieseň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nádej v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uj naše chvályvzd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prosieb hl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j, Pane, po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na prahu sme ro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s nové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 ľud na každom krok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ň od zlého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14:13Z</dcterms:modified>
  <cp:revision>97</cp:revision>
  <dc:subject/>
  <dc:title>Je veľký náš Pán, on slávy je Kráľ Nech do všetkých strán  spev vrúcnych znie chvál.</dc:title>
</cp:coreProperties>
</file>